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908A-7464-443B-B799-3B67645CC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6421-D33F-4577-AFC5-B930BA2F8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F1F8-9D7D-4073-8203-617AB3FE7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1B45-EC48-48D9-8994-AEDCF30634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3D09-0395-4E3B-9935-338D726F81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DA8-490E-40A1-AAAD-5BE977452E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1CD-2F85-49CE-8077-4A6AC78B10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6309B-6489-43D0-9AAA-EC78B814E0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F858-B122-4979-AEA5-36752E7C2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F16-63BA-43FA-A53C-9E17D1BF10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05B2-E0B3-4266-B507-0E07603215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26CF-0319-4674-A2F1-A094A2BE3A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2F72-0B8E-4FD5-9CA1-6445064C69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B595-4F8D-437A-ACDB-BAA610FF01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EC80-3E9C-412D-8812-96A254875A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604A-E372-47D1-BB1D-D779BABF24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7E20-95FB-40D2-87DE-6A232A0B83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5D29-5684-47C1-A995-FD89451BB5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7751-533F-40E6-9A3E-0AB9C6625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5CDF-8C45-4CB0-8211-AFFE78325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59AD-C30D-4C6D-A08E-2D6ABD4436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46B5-8182-4A7E-AE32-0612907138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6C00-D371-4C9E-94BA-7727AC90C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72185-C4DA-43E3-80C6-26F1E35E1D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0EF0-FB25-4C70-8F4A-3327525D51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9E4-7C7A-42FD-BACD-0E775010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DEB-6623-4042-AA55-7718FCF6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2CE1-F188-44D1-980C-5B8E8896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CE40-60C8-47B7-A780-3DC82FDD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7693-F475-4D83-AF04-1211B40B2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231B-647B-4F18-8E4A-D58B3F6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3A5B-ED3B-406B-9C12-3AC1DD40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62A1-C725-455D-8E41-419FEEFE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3CE4-B61D-4A4D-BC65-2C266355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DAD-28BB-4A5B-A69A-F6B48A2F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07E5-F427-48DD-A25A-2F7FF7FE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94E-744C-4EE3-935C-DEA46393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3DC9-0838-4742-81CE-CC3590D9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93C2-CE23-4B8B-AAD2-679D42F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21487-D410-4B4E-89ED-87C5EFA7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4A1E-FC07-48BD-A1E6-DFDF2B66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573-81FD-4264-86B4-BF363C5A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7009D-47A1-4399-BC8C-A27DFBAB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B1C0-0E7A-4F99-8001-56540B9D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7A97D-CE3A-46F6-A8DC-8C7E5E43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4164-8714-49C0-938F-8B4410A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1CF22-90EB-49B6-9B61-BB1B6030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8DC9-20F2-4180-BDF8-BBB90CEB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515A4-CE8C-41D9-BC40-0515415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41CC-5B06-40CF-8B30-0FEC64BD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DC3A3-4A36-42DC-9EC7-9A8EDAC3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7208-19BE-47AB-A07D-9BE6E61C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50FB-4957-47ED-B88C-4D01FE78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AE4BE-1A6F-4549-9783-900FFA50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9DBA5-B013-41F9-BFA5-D39626E5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2B3-5870-4D27-8E4D-982DEA32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D1F2-B146-4EDC-B850-5B6DD5C9A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32B-0D4F-426E-81A6-00228129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1EE-F4F2-45A4-B3C0-B6A2B2B8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C39-2C6F-42FB-9F91-AE41345C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7D2-5435-4215-A1D9-4E789ED1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feat2"/>
          <p:cNvPicPr/>
          <p:nvPr/>
        </p:nvPicPr>
        <p:blipFill>
          <a:blip r:embed="rId3"/>
          <a:stretch/>
        </p:blipFill>
        <p:spPr>
          <a:xfrm>
            <a:off x="76212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AE89-1A44-4AD1-B82E-AD970F651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5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C49E-0C3E-4841-901C-DD1C96FF8AE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5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65C8-7043-4A2F-BAC1-467E1F2D3C8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ir Pollution </a:t>
            </a:r>
            <a:br>
              <a:rPr sz="4400"/>
            </a:b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hapter 2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duces visual ran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mages pla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ot so hot for animals/people eith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egrade soils and water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ynergistic effect of many polluta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1 + 1 = way more than 2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lfates + nitrates do more damage togethe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Nitrogen oxides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(NOx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rom burning biomass including fossil fue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Oxides of Nitrogen Chemistr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ffect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ame as acid rain plu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xcessive N levels in soi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rmation of ozon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Nitrogen dioxide is an irritan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lution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228240"/>
            <a:ext cx="80802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Hydrocarb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80% are from natural source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rest from fossil fuels, cars….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ostly generated from incomplete combustion of fuels or combustion byproduc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ery Carcinogenic and highly toxic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VOCs (Volatile Organic Compound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Benzen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CBs  (Polychlorinated Biphenal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ioxi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472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99"/>
                </a:solidFill>
                <a:uFillTx/>
                <a:latin typeface="Verdana"/>
              </a:rPr>
              <a:t>Carbon monoxide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 high toxicity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90% from natural sources: ie volcano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uman sources = fuel and biomass burnin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ormed from combustion of fuel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ast about a month, then oxidizes into carbon dioxide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Catalytic converters on cars reduce them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Asbesto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naturally occurring mineral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mined and used in many building materials in the past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Lead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primary source was leaded gasoline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also from mining, smelting, industry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Secondary Polluta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1680" y="914040"/>
            <a:ext cx="8461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Photochemical oxidan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ozone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internal combustion engines:  cars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nd power plants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ends to be worse in summer (high sunlight) and in ‘still’ air loaded with hydrocarbons and NOs.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kes a while to form, so can build up </a:t>
            </a: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downwind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of pollution center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ummertime Smog” can last days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4937040" y="590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Photochemical Pollution</a:t>
            </a:r>
            <a:br>
              <a:rPr sz="4000"/>
            </a:b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(Ozone Production Chemistry)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66"/>
                </a:solidFill>
                <a:uFillTx/>
                <a:latin typeface="Verdana"/>
              </a:rPr>
              <a:t>Why ozone can be worse in rural areas: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Health effects of ozon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rreparable lung dam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Loss of lung capacit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ggravates asthma and chronic diseas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ynergistic effect : ozone and smokin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uppresses immune system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re they all man caused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!!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What are some natural sources?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ctually, natural emissions are greater than human ones!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(With the exception of sulfur and nitrogen oxides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uman pollutants are more concentrated in urban area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Air Quality Index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QI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ells how clean or polluted an area’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outdoor air i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lculated for 5 major pollutant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O, SO2, NO2, PM, O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ange = 0 to 500  (100 = national standard for acceptable air quality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bove 100 = bad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Meteorological Influence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an make magnify air pollution problem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Inversion layer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69" name="Picture 7" descr="INVERSION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Verdana"/>
              </a:rPr>
              <a:t>L.A. Smog (photochemical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)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Brown air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Related to car use: cars release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NOx, CO, VOCs (ie: hydrocarbons), particula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Morning, traffic = NO released, oxidizes to N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in atm.   Reacts with VOCs and sunlight to produce ozone. Ozone oxidizes NO to make more NO</a:t>
            </a:r>
            <a:r>
              <a:rPr b="0" lang="en-US" sz="24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…process is cyclic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Verdana"/>
              </a:rPr>
              <a:t>London Smog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Gray, industrial smog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Produced by burning coa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Sulfur dioxides combine with atm. particulat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Acid Rai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ccurs downwind of areas with S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and NO</a:t>
            </a:r>
            <a:r>
              <a:rPr b="0" lang="en-US" sz="2800" spc="-1" strike="noStrike" baseline="-25000">
                <a:solidFill>
                  <a:srgbClr val="006699"/>
                </a:solidFill>
                <a:latin typeface="Verdana"/>
              </a:rPr>
              <a:t>x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emissions (ie:  coal burning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H scale is logarithmic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Pollutants react in atm to form sulfuric and nitric  acid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eposited as rain, fog, snow or dry deposi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Affects plants and aquatic lif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Damages buildings and statu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Post Clean Air Act 1970 / 199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Large particulates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settling chambers and cover exposed sites (fugitive sources), scrubbers, air filters, electrostatic precipitato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CO, NOx, Hydrocarbons: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Autos:  catalytic converters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SO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2 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(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Acid rain)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: use low sulfur coal or clean it by washing (expensive) or scrubbing.  Also conserve energy and/or use alternative energy sourc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What are some human sources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are stationary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Like point sources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Fugitive sourc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And area sources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44720" y="159984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me are mobile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44720" y="390492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159984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4720" y="390492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7" name="Picture 9" descr="ozone-pollution-mobile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Primary Pollutant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Verdana"/>
              </a:rPr>
              <a:t>Particulates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: small mixed particles in air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Ultrafine = smaller than .1 micron (virus sized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ources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0" name="Picture 7" descr="partic1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962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12"/>
          <p:cNvSpPr/>
          <p:nvPr/>
        </p:nvSpPr>
        <p:spPr>
          <a:xfrm>
            <a:off x="5638680" y="13716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uman hair is about 100 mic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3904920"/>
            <a:ext cx="4041720" cy="21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35" name="Picture 5" descr="P88-3e(1)"/>
          <p:cNvPicPr/>
          <p:nvPr/>
        </p:nvPicPr>
        <p:blipFill>
          <a:blip r:embed="rId1"/>
          <a:stretch/>
        </p:blipFill>
        <p:spPr>
          <a:xfrm>
            <a:off x="3124080" y="1371600"/>
            <a:ext cx="5715000" cy="5429160"/>
          </a:xfrm>
          <a:prstGeom prst="rect">
            <a:avLst/>
          </a:prstGeom>
          <a:ln w="9360">
            <a:solidFill>
              <a:srgbClr val="f2dffd"/>
            </a:solidFill>
            <a:miter/>
          </a:ln>
        </p:spPr>
      </p:pic>
      <p:sp>
        <p:nvSpPr>
          <p:cNvPr id="236" name="Text Box 6"/>
          <p:cNvSpPr/>
          <p:nvPr/>
        </p:nvSpPr>
        <p:spPr>
          <a:xfrm>
            <a:off x="762120" y="76212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arg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2514600" y="1676520"/>
            <a:ext cx="3276720" cy="1295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914400" y="3124080"/>
            <a:ext cx="2057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mall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piratory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9"/>
          <p:cNvSpPr/>
          <p:nvPr/>
        </p:nvSpPr>
        <p:spPr>
          <a:xfrm>
            <a:off x="2666880" y="3581280"/>
            <a:ext cx="3124440" cy="1905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457200" y="380880"/>
            <a:ext cx="70866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99"/>
                </a:solidFill>
                <a:uFillTx/>
                <a:latin typeface="Arial"/>
              </a:rPr>
              <a:t>Sulfur Ox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rom fossil fuel bur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5" descr="so2trend"/>
          <p:cNvPicPr/>
          <p:nvPr/>
        </p:nvPicPr>
        <p:blipFill>
          <a:blip r:embed="rId1"/>
          <a:stretch/>
        </p:blipFill>
        <p:spPr>
          <a:xfrm>
            <a:off x="2286000" y="3429000"/>
            <a:ext cx="6400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Acid Rain Chemistry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ffect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Acidification of water in lakes and soil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Respiratory irritatio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Erosion of limestone structur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Damage to plant foliage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olutions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0:10:32Z</dcterms:created>
  <dc:creator>tosborne</dc:creator>
  <dc:description/>
  <dc:language>en-US</dc:language>
  <cp:lastModifiedBy>tosborne</cp:lastModifiedBy>
  <dcterms:modified xsi:type="dcterms:W3CDTF">2012-03-19T23:41:11Z</dcterms:modified>
  <cp:revision>45</cp:revision>
  <dc:subject/>
  <dc:title>Slide 1</dc:title>
</cp:coreProperties>
</file>